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7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4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ftr" idx="4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 type="sldNum" idx="4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11D6-379A-4868-BCBD-EB4042D03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102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7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6BFA-3D47-4823-9D31-084587155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EF6E-B2B2-4594-8CAB-AB88924C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9241-464D-4008-A409-47093F46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D22B28-A447-4C2B-A630-32B1C640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363198-AE96-4F86-A6CD-6B65D8C0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8EE40E-27C3-4E65-81B7-6CA2DB8D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98E809-CDE2-43A4-B500-560C32F7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F7D549-8445-4BB0-8113-102FDA41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1022AA-D33D-4ABB-BD63-5CBE851C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8602F7-982E-47C9-B458-63AED84E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94239F-9822-4BF3-9558-310E4108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AE0F8F-82C8-4525-B214-CF03D317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D3CC40-1D05-4FBA-8849-EAF2FA64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3B56-7CD9-4D58-AC1F-C7648C53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5D7378-B821-4086-8334-0187086E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4E44E7-3C5A-4904-A09A-478D02AC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AF7136-3D2E-416C-9C4D-CC76AC7F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639497-53D5-49AB-8F16-E1553C88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FE37DB-69B6-4C7E-AC1A-BB7CEEDE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9030B3-FF1D-4CAA-A8E0-5FF1279C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111602-67AE-40AC-966C-8A0A0FA1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12C911-30D4-4259-AEBA-F5701D2D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15B1FC-5FBF-4F85-8DB0-23FA5DE7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5F3350-F5FA-4C6D-823C-7B019208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275-7F90-4D1D-97D3-978F7886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277761-3F05-4671-A2EC-958A0E48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B4E4A1-D0FC-41E5-8699-D6F63E38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30464E-5E73-4BC8-A300-8D1D1A9F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655A13-AC6B-4B6A-9ECA-1B197F2E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96EFC9-9000-47E2-8C94-FAA2DE3A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361FBC-4796-4194-84FF-E848C1AB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FD2D36-0E3E-4481-AB60-78DCAB19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0B3C85-D6A2-467D-BEB8-CFEF2675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52232C-72DB-4344-8FA6-2D452D32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F35C39-0E15-4F4C-93E9-07B9B6BD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2AC2-8AA4-44B7-B332-B9C7682F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DEDB5B-E0E5-4EE9-B20E-6E338098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C9D73B-BCFC-4F7D-9FD5-BEE586F8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277107-C3E4-4C2F-812D-F4B40D8AD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33A63D-01C4-4454-B009-CF0995DB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A3BCD1-8DBD-4331-BC55-BE5D85C5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151BF6-EFBE-48FC-BC74-5D2D75E4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798A4B-D06C-44AC-AA2A-18DBFB58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4F007C-7AF2-4C83-A8DB-CB58B5B9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A4BAE0-44F4-4B25-A24B-ED0C73F6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9A89D2-9B98-4F1B-98AA-991505AC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137C-7D03-43DA-97DA-3C6CA96C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6BFE49-AB5F-4E1D-9072-23C59280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B0EC91-0C20-4D1C-82C6-81EDD021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AAD88E-3834-4BBB-8757-3836C9A7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B38457-75F6-4217-B912-BB4EB347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87AE3A-E65A-443D-836F-EC0A7A7A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C6586B-C989-4D42-8B9D-3C6AB2E8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1EE5F9-6279-491D-A072-D6FE4F37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BEABDE-082B-4E3A-80B1-9CA6B9A5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F5E082-A118-4859-A81D-62640D51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72C3E4-CAA4-45CD-9729-0D368439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997E-CA4C-44FF-B64E-2709C1A1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48449A-7B95-4A52-BD26-B655AEC0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6C6BA9-602D-4ADA-9030-BBC89779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4FA74F-D4B9-4F1E-982D-59AD1092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081244-BD2B-483B-885F-5E3572A0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8FD989-C080-4613-9E69-659F5E0E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2ADF0D-CA54-4AAB-B470-9843283F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54F175-6FC4-4F46-98B2-4BD7AA6A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3F9549-260A-4C04-A4DF-67AC28DF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C7737B1-17B5-420E-803B-B4BA67A9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BBDA78-3D97-45FB-AE45-EB6698CA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C3CC-2069-437F-875F-7F78A570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B6795D-EFBC-4A96-809E-D119AED4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162442B-643A-4AB9-A2FD-16F3BF57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2634E5E-C4A6-4742-A76C-3035519B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0794F72-4AA9-495F-810B-EA7173A1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709126C-CB6F-4771-AC48-417E211F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2A52AE-F20E-4A3E-A0F4-5E2CA7D4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7F256B-0721-42CF-9925-A277554F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28D9038-107D-48AE-806E-C3BF4ECA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04E8C90-7407-4BCB-A21E-654318E5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2DACF35-1F6D-4900-A189-DDC226CE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D9EC-1BB1-45C0-B35B-B7FADA66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BF5202-19C7-46F4-93A8-22A12C6C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3643E0-EFE8-4679-8434-1A153213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169544F-42C9-4A97-8990-DA6C710E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E7B3FB-1D8C-467D-9630-497F1834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C9A3F66-DDA9-4900-84BD-FA2CC7BF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A10DAE8-4C09-44B8-9801-7F28D062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1D41856-91B7-4100-B1C3-99AA5CDE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B3241EC-04B6-4FD2-B764-01EDE357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9607F2-B170-41DB-9504-9D37F9BA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3B59CF-2BC4-4401-A45D-3FC29CDE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AF20-4218-423C-9CEA-630BB7DF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A9AEB21-9414-44E9-BF8E-B7FD3A2E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00AD-88DF-4B7B-AB0B-7F41C19A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1B3-3F33-44FE-8E40-2F3BF079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180F-1E8F-475F-A611-F5FAEBD8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4678-C525-4116-B61B-D07F4593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D656-C8EF-445D-A0F4-856F06BF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11EA-82C4-413D-9FE2-DC543711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C6CC-9E95-4349-BB02-98F7C823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F752B-D5B6-4673-9D9D-4DC6C4B6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CB139-882B-4EB2-92D6-7867D583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58C68-66DA-4256-BFDE-2BB679FB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34E47-0891-44FB-BF9C-6C4D8875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7D0EC-52DE-4B4F-8454-B9108BD8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84ED-05B9-4E66-A504-81F62644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69740-828C-4286-BC29-F1D62DCC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D5367-8FBA-4D27-ADA4-05996065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61D57-1376-4302-A422-D8911793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54304-62DB-4AD0-B8C1-10EB307B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B318E-6A6D-4C4F-B9A6-6894D2EF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CC5BC-157E-4826-9424-8E6347DC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8750F-36B0-4A2F-9524-0016057F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216A-5E5D-4316-A05A-D51C0AFD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C0DDF1-0B65-4639-9310-C188CD91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7AD3-D3E6-4C03-9BA4-BFA10657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0B5AFD-AF8E-4F27-9CF1-2D6677FA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673F2A-B27B-4A2D-A6D3-7A2AA824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F0F0FC-E2B6-43C4-AD66-63D567E4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75B041-A5F8-418F-99FA-8ABB0B0D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8C5EE8-CC08-452B-A52E-72475AD7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A9C8F2-1D99-4B82-8654-22ECF201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92A399-BAB6-4295-BE4E-0C4966E2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BA669C-737B-4B69-A60F-5E900444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0B8046-7DF1-4F31-9B22-F2DD0FD5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A0F1DB-AF35-483D-9AE9-C7CDC327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502B-8863-4773-9702-2D4AB229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01474D-EC4C-4F99-BB5B-84AA51F6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58AC56-5FA6-4467-9881-1C55E42D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881CDB-5888-411E-871F-8EE5B365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5A0184-1A9B-4BA0-9910-E5974EFF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A671EF-0D1C-4DFA-94D3-40D81758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9BF6D6-ED89-4977-BAFF-AD682FD5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32AFAA-F748-4584-841F-899FAF52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477444-1870-4AF7-B410-C6812A94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C52856-F3E0-46C8-849C-22076252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68650B-CE1E-4D6B-B509-2AC27A34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B796-E4D4-4A68-AE05-BF883207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47F30D-319E-4A38-8346-B86E88A7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93B3DA-D5F8-4543-98AA-9923AFA4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8556BA-4198-426D-9F64-B34364BE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E6E138-2834-4BAD-9674-9599F8CB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F0641A-7470-4C80-AA19-78112B1D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FC1B6E-BDD1-42E6-A881-318D25BE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3EF6DB-18C7-4D1B-80A1-B9DEC0D9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024F59-1E18-4021-BD93-7E297A5A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EA36B0-C87B-4E59-87EA-DAC42854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FC4024-448D-4B88-A3AE-2D4691D7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A8B-8B19-49A9-AA41-72ABB31E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7A060A-3D95-45F5-A1A2-EA1124E7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4D2121-2E76-4697-8CAD-8396ACA6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F8CBEA-15F2-407D-8D4F-35685FE2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053829-43EB-4A2B-954F-3521FD6A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805A39-DE6B-40FB-B9A9-0F1FC647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EAF3BA-EF47-421D-B00A-A631A40D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1BD249-604B-4720-953B-C55FD8F1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3BCA7C-43A8-419D-92B3-CC219013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89A04F-FC1E-477D-ACB1-568E8321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E18C61-91AD-4263-A16B-17131676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865A-7899-41F4-B97C-F72ADCF5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601664-E7A4-44FB-94BF-1FE74C62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7D6396-6F38-429E-A749-D869E3B7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EF6BF7-F7F3-45FC-A3F4-67EB753F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4C3B00-2A5F-4503-A536-D745ACCB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E11BDF-4E40-426D-B102-873749FA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EA80D2-9D7F-48A8-A877-D7C72F9E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4D7295-328A-4B99-8F63-491A35E9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944AEC-AF40-4086-AAF6-085ED0BA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9E812E-EEEC-4405-8A23-A92DFBC2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653E3D-8792-4984-950E-35C73785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4F44-7479-41A1-A20C-8249D2B808FF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AB47-BC3D-40C2-B240-D7FE4C1509F4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15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16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18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0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D932-8683-4E66-BA47-5CE4589CB6B4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DACA-AA06-415E-BD38-0F472075D3CE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6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6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46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Rectangle 13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4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945E-631E-4464-8A84-754F7819D14B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CE93-7034-4031-94CE-15CD20CD18CF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2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51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51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Group 10"/>
              <p:cNvGrpSpPr/>
              <p:nvPr/>
            </p:nvGrpSpPr>
            <p:grpSpPr>
              <a:xfrm>
                <a:off x="377640" y="348480"/>
                <a:ext cx="8385480" cy="6148440"/>
                <a:chOff x="377640" y="348480"/>
                <a:chExt cx="8385480" cy="6148440"/>
              </a:xfrm>
            </p:grpSpPr>
            <p:sp>
              <p:nvSpPr>
                <p:cNvPr id="516" name="Rectangle 11"/>
                <p:cNvSpPr/>
                <p:nvPr/>
              </p:nvSpPr>
              <p:spPr>
                <a:xfrm>
                  <a:off x="377640" y="348480"/>
                  <a:ext cx="8385480" cy="61484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Straight Connector 12"/>
                <p:cNvSpPr/>
                <p:nvPr/>
              </p:nvSpPr>
              <p:spPr>
                <a:xfrm>
                  <a:off x="377640" y="6282360"/>
                  <a:ext cx="838548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8" name="Rectangle 8"/>
            <p:cNvSpPr/>
            <p:nvPr/>
          </p:nvSpPr>
          <p:spPr>
            <a:xfrm rot="5400000">
              <a:off x="800640" y="3273840"/>
              <a:ext cx="6135480" cy="633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2305-89DE-4B1F-8FE3-68A48D3E01C3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5C58-F14D-4736-82FF-D8D7F5F20BC1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561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563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5" name="Rectangle 11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8FD8-F420-472D-9341-8DB0FC0D4261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7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8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8FF8-8187-4E56-8F7A-0658583D8F15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0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1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9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7F4B-06EB-4FC8-88FD-538FF4508ECD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0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1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82CD-4B0B-44FA-8774-0F6C9F14A7E0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5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65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0" name="Rectangle 11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12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6310-0247-4411-AA8A-1030B271ABED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D419-DFBE-42A9-BF2F-E72A62F1A245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42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8"/>
            <p:cNvSpPr/>
            <p:nvPr/>
          </p:nvSpPr>
          <p:spPr>
            <a:xfrm>
              <a:off x="685080" y="580680"/>
              <a:ext cx="7745760" cy="568368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685080" y="6042600"/>
              <a:ext cx="774576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85080" y="563760"/>
              <a:ext cx="7745760" cy="248796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A390-752F-48C6-8182-EE71F4156FCB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8CA3-2292-4EBA-AFCE-B02328ED9F07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5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88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90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3068-41F1-4B8D-982A-F6A40783BBA2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BC15-B7D5-4AC3-A7A2-8C3924AD8358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PaperPanel-Title.jpg"/>
          <p:cNvPicPr/>
          <p:nvPr/>
        </p:nvPicPr>
        <p:blipFill>
          <a:blip r:embed="rId3"/>
          <a:stretch/>
        </p:blipFill>
        <p:spPr>
          <a:xfrm>
            <a:off x="360360" y="298440"/>
            <a:ext cx="8418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563400" y="476280"/>
            <a:ext cx="7982280" cy="5888160"/>
            <a:chOff x="563400" y="476280"/>
            <a:chExt cx="7982280" cy="5888160"/>
          </a:xfrm>
        </p:grpSpPr>
        <p:sp>
          <p:nvSpPr>
            <p:cNvPr id="136" name="Rectangle 8"/>
            <p:cNvSpPr/>
            <p:nvPr/>
          </p:nvSpPr>
          <p:spPr>
            <a:xfrm>
              <a:off x="563400" y="476280"/>
              <a:ext cx="7982280" cy="58881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Straight Connector 9"/>
            <p:cNvSpPr/>
            <p:nvPr/>
          </p:nvSpPr>
          <p:spPr>
            <a:xfrm>
              <a:off x="563400" y="613440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Straight Connector 10"/>
            <p:cNvSpPr/>
            <p:nvPr/>
          </p:nvSpPr>
          <p:spPr>
            <a:xfrm>
              <a:off x="563400" y="342756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6952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F12C-B439-4E1B-84C1-27F9F038DD8A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638680" y="6124680"/>
            <a:ext cx="289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8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182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5922-EA2A-47D8-9910-2F869D10C29C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4893-C19F-424D-8C3A-4A77382307CD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2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400D-AF98-4CA7-A276-4A14B0AE1310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C08E-ED5C-4A29-B4F6-9ECB4B2DA96C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73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8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275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8" name="Straight Connector 12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traight Connector 13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8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09B4-0C5A-4E56-9DAF-CD2E20BB3A5E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9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0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E38D-4C74-4DEA-BFB4-EA51614203D6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22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Rectangle 11"/>
              <p:cNvSpPr/>
              <p:nvPr/>
            </p:nvSpPr>
            <p:spPr>
              <a:xfrm>
                <a:off x="377640" y="1667160"/>
                <a:ext cx="8385480" cy="6120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6055-49CB-4491-9756-11C9EC41A50C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B6CE-F16A-4427-82B1-1F5BD15D280B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6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0"/>
            <p:cNvGrpSpPr/>
            <p:nvPr/>
          </p:nvGrpSpPr>
          <p:grpSpPr>
            <a:xfrm>
              <a:off x="377640" y="348480"/>
              <a:ext cx="8385480" cy="6148440"/>
              <a:chOff x="377640" y="348480"/>
              <a:chExt cx="8385480" cy="6148440"/>
            </a:xfrm>
          </p:grpSpPr>
          <p:sp>
            <p:nvSpPr>
              <p:cNvPr id="371" name="Rectangle 9"/>
              <p:cNvSpPr/>
              <p:nvPr/>
            </p:nvSpPr>
            <p:spPr>
              <a:xfrm>
                <a:off x="377640" y="348480"/>
                <a:ext cx="8385480" cy="61484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Straight Connector 10"/>
              <p:cNvSpPr/>
              <p:nvPr/>
            </p:nvSpPr>
            <p:spPr>
              <a:xfrm>
                <a:off x="377640" y="6282360"/>
                <a:ext cx="838548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7CC1-24AB-4AA1-B563-9BAF2115233B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2CDD-525B-4A3D-9BD8-2F9DD5F93C1E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ahoo.com/finance" TargetMode="External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reating a Workshee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1" name="TextBox 2"/>
          <p:cNvSpPr/>
          <p:nvPr/>
        </p:nvSpPr>
        <p:spPr>
          <a:xfrm>
            <a:off x="457200" y="220968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cal periods typically begin at the beginning of a month and lasts a specified amount of ti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a fiscal period for a business is one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al Information may be analyzed at any time during the year, however, it always is analyzed at the end of the fiscal peri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Box 3"/>
          <p:cNvSpPr/>
          <p:nvPr/>
        </p:nvSpPr>
        <p:spPr>
          <a:xfrm>
            <a:off x="3054240" y="5334120"/>
            <a:ext cx="324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24a82"/>
                </a:solidFill>
                <a:uFillTx/>
                <a:latin typeface="Times New Roman"/>
                <a:hlinkClick r:id="rId2"/>
              </a:rPr>
              <a:t>www.yahoo.com/fi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sto MT"/>
              </a:rPr>
              <a:t>Reasons a Worksheet is Used</a:t>
            </a:r>
            <a:endParaRPr b="0" lang="en-US" sz="43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4" name="TextBox 3"/>
          <p:cNvSpPr/>
          <p:nvPr/>
        </p:nvSpPr>
        <p:spPr>
          <a:xfrm>
            <a:off x="457200" y="187632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ummarize General Ledger account balances to prove that debits equal cred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lans needed changes to general ledger accounts to bring balances up to d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eparate General Ledger account balances according to financial statements to be prep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lance Sheet and Income Stat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To calculate the amount of net income or net loss for a fiscal peri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4920" y="244440"/>
            <a:ext cx="853416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04040"/>
                </a:solidFill>
                <a:latin typeface="Calisto MT"/>
              </a:rPr>
              <a:t>PREPARING THE HEADING OF A WORK SHEET</a:t>
            </a:r>
            <a:endParaRPr b="0" lang="en-US" sz="29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16" name="Picture 3" descr="D:\C21 PowerPoint\Multi_Journal\art for blue\Ch07\Ch07-01a.jpg"/>
          <p:cNvPicPr/>
          <p:nvPr/>
        </p:nvPicPr>
        <p:blipFill>
          <a:blip r:embed="rId2"/>
          <a:srcRect l="39340" t="0" r="0" b="87104"/>
          <a:stretch/>
        </p:blipFill>
        <p:spPr>
          <a:xfrm>
            <a:off x="422280" y="1981080"/>
            <a:ext cx="8229600" cy="2181240"/>
          </a:xfrm>
          <a:prstGeom prst="rect">
            <a:avLst/>
          </a:prstGeom>
          <a:ln w="0">
            <a:noFill/>
          </a:ln>
        </p:spPr>
      </p:pic>
      <p:sp>
        <p:nvSpPr>
          <p:cNvPr id="717" name="Oval 4"/>
          <p:cNvSpPr/>
          <p:nvPr/>
        </p:nvSpPr>
        <p:spPr>
          <a:xfrm>
            <a:off x="2784600" y="22860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5"/>
          <p:cNvSpPr/>
          <p:nvPr/>
        </p:nvSpPr>
        <p:spPr>
          <a:xfrm>
            <a:off x="1184400" y="33526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6"/>
          <p:cNvSpPr/>
          <p:nvPr/>
        </p:nvSpPr>
        <p:spPr>
          <a:xfrm>
            <a:off x="2971800" y="28954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7"/>
          <p:cNvSpPr/>
          <p:nvPr/>
        </p:nvSpPr>
        <p:spPr>
          <a:xfrm>
            <a:off x="457200" y="502920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 of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457200" y="42670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Name of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9"/>
          <p:cNvSpPr/>
          <p:nvPr/>
        </p:nvSpPr>
        <p:spPr>
          <a:xfrm>
            <a:off x="457200" y="4648320"/>
            <a:ext cx="39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 of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10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7-1, page 1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PREPARING A TRIAL BALANCE ON A WORK SHEET</a:t>
            </a: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25" name="Picture 3" descr="D:\C21 PowerPoint\Multi_Journal\art for blue\Ch07\Ch07-01b.jpg"/>
          <p:cNvPicPr/>
          <p:nvPr/>
        </p:nvPicPr>
        <p:blipFill>
          <a:blip r:embed="rId2"/>
          <a:srcRect l="11607" t="0" r="0" b="48035"/>
          <a:stretch/>
        </p:blipFill>
        <p:spPr>
          <a:xfrm>
            <a:off x="457200" y="914400"/>
            <a:ext cx="5246640" cy="5410080"/>
          </a:xfrm>
          <a:prstGeom prst="rect">
            <a:avLst/>
          </a:prstGeom>
          <a:ln w="0">
            <a:noFill/>
          </a:ln>
        </p:spPr>
      </p:pic>
      <p:sp>
        <p:nvSpPr>
          <p:cNvPr id="726" name="Oval 4"/>
          <p:cNvSpPr/>
          <p:nvPr/>
        </p:nvSpPr>
        <p:spPr>
          <a:xfrm>
            <a:off x="457200" y="16002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Oval 5"/>
          <p:cNvSpPr/>
          <p:nvPr/>
        </p:nvSpPr>
        <p:spPr>
          <a:xfrm>
            <a:off x="5486400" y="53341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Oval 7"/>
          <p:cNvSpPr/>
          <p:nvPr/>
        </p:nvSpPr>
        <p:spPr>
          <a:xfrm>
            <a:off x="4419720" y="121932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8"/>
          <p:cNvSpPr/>
          <p:nvPr/>
        </p:nvSpPr>
        <p:spPr>
          <a:xfrm>
            <a:off x="5867280" y="287172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5867280" y="2133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Account Ti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0"/>
          <p:cNvSpPr/>
          <p:nvPr/>
        </p:nvSpPr>
        <p:spPr>
          <a:xfrm>
            <a:off x="5867280" y="323532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To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1"/>
          <p:cNvSpPr/>
          <p:nvPr/>
        </p:nvSpPr>
        <p:spPr>
          <a:xfrm>
            <a:off x="5867280" y="2498760"/>
            <a:ext cx="28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Bal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12"/>
          <p:cNvSpPr/>
          <p:nvPr/>
        </p:nvSpPr>
        <p:spPr>
          <a:xfrm>
            <a:off x="2743200" y="5715000"/>
            <a:ext cx="106668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 &amp;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15"/>
          <p:cNvSpPr/>
          <p:nvPr/>
        </p:nvSpPr>
        <p:spPr>
          <a:xfrm>
            <a:off x="5486400" y="60199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17"/>
          <p:cNvSpPr/>
          <p:nvPr/>
        </p:nvSpPr>
        <p:spPr>
          <a:xfrm>
            <a:off x="5851440" y="35971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Write To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9"/>
          <p:cNvSpPr/>
          <p:nvPr/>
        </p:nvSpPr>
        <p:spPr>
          <a:xfrm>
            <a:off x="5851440" y="3962520"/>
            <a:ext cx="232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ble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20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7-1, page 1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3:17:25Z</dcterms:created>
  <dc:creator>Mary Colleen McLaughlin</dc:creator>
  <dc:description/>
  <dc:language>en-US</dc:language>
  <cp:lastModifiedBy>David Combs</cp:lastModifiedBy>
  <cp:lastPrinted>1999-03-30T19:15:04Z</cp:lastPrinted>
  <dcterms:modified xsi:type="dcterms:W3CDTF">2012-11-07T14:22:48Z</dcterms:modified>
  <cp:revision>26</cp:revision>
  <dc:subject/>
  <dc:title>THE ACCOUNTING EQUATION</dc:title>
</cp:coreProperties>
</file>